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320-BF3D-4AA7-AC4C-6F9C3CA2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443-EE66-46C8-B7A4-5D17595F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CBE-87F7-4E5E-89A8-D2CDF5F8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4EB-5264-43F5-92DB-E0D9020F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87A8-F305-41B0-8328-20C8C193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544E-177F-4C0A-9317-C5A05342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2EB0-CDD2-4ACF-81CC-A9A8C282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02D6-0EE8-4167-AAAE-F8BDE98C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7D41-5968-463B-A60E-0ACBC1FE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E7C1-E259-477C-A0A4-762C68AD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50C3-E664-4CAA-95E3-14022E1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CB6-27F3-4A80-9C23-B7D85DD9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B6F0-0391-4A35-9C0C-42D4D4C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0E17-9822-41AB-AAC1-76F5CE98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7FE2-14F1-4B26-8D89-7C846E29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6412-0F02-4581-AAF4-D5E92015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14EB-7BCA-4212-B0FA-47093C6A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3C3-77C2-49DD-A955-8437136E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1E5-E3BD-4208-8D7F-FEADED70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922-F1BE-4C0D-AA8B-F2D0332C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AC2-5AD5-4BE4-84A5-7A04DD54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754-AEFC-4E87-AB78-9EFB574A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509-5855-41CE-B820-B0E59A30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791-8FA1-4A35-B28E-BC60F2B4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D6CE-6204-4737-AA5E-694058993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D11A-97EF-4508-8293-5DFCACFF6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mail Etiquett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Guide to Internet Communi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6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tiquett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l rules of behavior for the Interne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ternet customs have evolved over time, and help make the Internet a pleasant place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Groups, chat rooms, instant messaging share most of these rules of conduct with emai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6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tiquette – The Basic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120" y="2209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et to the poi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lain text still ru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bbrevi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mil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mili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6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2133720"/>
            <a:ext cx="6781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ey Fa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-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ffer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ye-glas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-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pri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-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6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mail Thread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clude previous message when replying or answ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umber your points if the email is complex – makes replying easi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move part of the thread as the email grow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6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mail Privac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re isn’t any.  Email is not secur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void sensitive information in emai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member an email can be forwarded without your knowledge or consent to anyon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6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lam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 care when replying in email, forums or discussion groups.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Your emotions do not transmit in email – they cannot tell you are kidding (smilies help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e can all agree to disagr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6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jor No-No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yping in UPPER CA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lam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nding Spam via email or in chat roo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rwarding jokes with 200 email addresses at the top of the page…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rge File Attachm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rgetting to re-read the email before sen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ther Techniqu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mass emailing – use the BCC fie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 a meaningful subjec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on’t forward virus hoaxes or chain lett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on’t Reply To Spa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 advTm="6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6:46:31Z</dcterms:created>
  <dc:creator/>
  <dc:description/>
  <dc:language>en-US</dc:language>
  <cp:lastModifiedBy>user</cp:lastModifiedBy>
  <dcterms:modified xsi:type="dcterms:W3CDTF">2010-01-02T16:45:07Z</dcterms:modified>
  <cp:revision>0</cp:revision>
  <dc:subject/>
  <dc:title>Email Etiquette</dc:title>
</cp:coreProperties>
</file>